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E5B-32FB-4037-AF13-283B9DD1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257-2719-4FEC-B2D1-4DF8EB6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DCA41-2924-471E-BF2E-160CD11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47A0-8F44-479D-848D-E7107D2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A0A9D-230A-47D5-B93E-388223BA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81AB3-EB59-47B2-9F72-8746AD1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7502D-CF45-43FA-AF30-49AE33E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112BE-8075-478D-93F8-1388D0D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6361A-B715-4CF2-8F00-1520AD8E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363C2-B2E6-48EF-BE53-B6D094ED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7B077-896B-44E2-90BE-C45D3DF6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957FB-ED0C-44D4-A30C-057E2A48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F4E-F711-4258-A5CE-B557D9C3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6ECF9-A350-4A16-AFB1-229D0E8E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B4CB2-57FA-46A2-AC43-DB093D7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2AAF4-E948-4DD0-B1E0-987B47B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17D60-6F28-42E7-AA98-DF7ECC6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55429-EE57-4275-882A-29EEFBE9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9970D-CD2E-413B-825D-2F227D0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9755E-B25B-4617-8477-9D4730D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BFAAC-5C97-4B84-811C-CF020882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FF352-BB93-4EA6-B5E7-21F9B75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D8796-D9BF-444E-8920-96415BF6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0A9-2C23-4789-98B3-2A87C0F5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49683-CAC7-4599-97D2-E28F8553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8B3C9-3CDA-46FE-BCB7-2FFDEB8E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491F-84AF-445D-BFE6-EAA22C37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8068A-D994-412A-8BC3-B40BA440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828B8-81F0-4950-AD07-393AC2A8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DE558-57AF-480A-BC97-FE7422FE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C871E-A702-45FB-BB22-2471BC5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23694-B845-4065-B898-484FE1A7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54AE7-CC73-40F4-908A-F464180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154BC-8DF1-48F0-BE4A-82F95B6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A31C-EAAC-4AA2-96DF-841CDE8C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769FB-0DFD-48A6-8651-6A7C2529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04586-479C-4129-84D2-6FCB8BE5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B301-B95C-4778-8CAC-956B822B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0FC02-2B5E-45FB-8A1D-B317B797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FBBEA-187A-4D62-90AA-D8EBA9E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74C2E-FD44-4E8D-82CE-7315C569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8E62C-E1E4-4438-9332-1D9320A1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2FE77-0076-4850-B264-C159DDE6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1671D-9B56-4A14-893A-CE4A0D3A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F1ACA-A1CD-4E4F-9832-9B6A6FF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7EE0-3CCF-4238-A7D3-168EF68E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B0F6F-5470-4539-B672-B6D4E96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44C93-706A-4CA9-9BCD-65B3827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34861-F4FC-4E86-8590-C2689688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25BF8-A851-4FBA-B289-D16E780E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724AB-8FB1-40FA-8FA5-1304E6FE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A2ECB-0EB4-425B-A2B6-F1A70B97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15F6D-F137-46E6-80E1-D9DAAF9E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1C728-E236-426F-B9BD-99DB9776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DB686-2C58-43C3-8A6A-E2607D5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EF06B-FDFF-4462-BC92-873BA333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2365-E8A8-4E04-A818-0605E14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7212B-66C4-4658-AB7A-1F626C04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3D439-8F16-4C91-942E-C771F99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01E92-523E-498F-82B0-CF48E93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C1AF9-BE2E-465B-8BF8-0F1FF26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250C7-C5FB-4FDC-8FB3-BA7E9CA5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0247D-BD8C-4DAA-9566-194644C7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CAC23-4D2E-4E81-8B03-F689D7F8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929EF-1A2D-4347-A679-784F7433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DADA5-46C3-4351-A483-8A0CEC79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41CD3-FB23-4CC9-AECC-7BB0B4D3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FD4C-1001-4648-AEE9-1101415D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9939D-252F-49DD-A329-ECE05D1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4C609-AFD5-4515-917F-C6A6EE1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52FBD-2BDE-4AD7-A3FA-AEA0BA60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0D9C7-33A9-472E-9F8F-8EF910F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212A9-8846-433A-8733-EA5064A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FB871-E3F8-49D8-8138-96247A21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FAF2C-B3AB-4F5D-ABCE-6B0BD6F3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778BE-1589-439A-BD1B-1DEE711E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E552A-465F-4C7E-8194-BC75BDE2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51423-809E-45D9-BC58-9E2E91BC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C63E-5F60-415D-9090-247CF46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91978-56AC-4259-8AA6-77759AA0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AD3DC-A73B-4ACD-9E57-1D6CD03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6FFE6-2289-4A79-9AE7-81E9A34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EBF22-22C1-4567-9443-9B1FD89C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1A86E-02E5-4642-B070-4BF42AC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AEBD9-5491-4AA4-81E8-807A3D7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89AF5-1566-460D-84F5-2E5302C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13BBF-07EA-44A9-A2E2-84A0DBB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7E647-F8DC-45FE-BD4C-6F71389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F6F82-0AAC-4CFA-B09C-A8F8090D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189-B010-42B6-AF4B-60B22C38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6D278-8593-4E63-B1CF-14FB5998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37E6B-7164-419E-81E0-EA215DDC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C28C9-F7C4-4948-AA7F-F61CD9DF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2B0E9-C125-42B4-A487-20AF048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DCF09-6461-47C7-B12C-A33EF872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84099-DEE7-4412-A1F6-8DE4A1C4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7A4EF-A035-4918-B907-4E5796B5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FA88E-EAB8-41F0-BF78-8B5B509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F766E-26C6-4B17-A23B-4B97E1D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8197D-B210-494E-AA19-F240746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86AD-9CFA-4000-A961-5E03582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D0916-E525-4D01-9182-6072D763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C361F-6588-49C9-A0DD-060430C6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DB98C-AE9E-425D-A5E6-7A8E3DF1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9A425-497D-4A10-AC8B-ADBEBF9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D13EB-C381-44C5-AF8F-6A5C99E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B3A8D-3640-4DEF-8721-F6F57AAC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C5D16-47F6-4B42-AE09-524036F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6F009-E95D-4ED6-A194-D80967F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684A8-7CFE-4B8E-9443-75277D2D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18FD3-D50B-4771-910E-62218D23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D32-79D7-4541-BB53-688463C0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8B6-5110-4BC3-9139-2FC4D87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1510E-B10E-4F37-8320-41571CDD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71822-5CB8-4B89-BA77-AAB775E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D33F8-86FB-40D5-806F-811B9ED9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DAF00-0B10-4DA8-8DE2-DD6C10D9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56E23-1D90-4F4F-A40D-D200851D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54FCF-B46F-4F59-91D8-6102826E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7D05A-A41C-4314-8E7E-1646983D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639B1-5A3E-4BA0-98ED-3E8623C4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57156-B53C-4B52-A337-7C256ECD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D9DB4-586F-41BD-B6AC-97051D6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4BD-D2F8-407E-88A3-E83F32C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C763E-EE25-4E74-BC60-BFFC6135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95DEE-FCEC-48B9-8045-33E5B3C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FF145-158B-48D3-BE5E-9209A93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0578A-5D24-4156-80AC-5831960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95547-FEB8-4216-BF41-1380040B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59DA5-2BB9-4AE1-B1FA-A250075D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5FC21-9C19-4442-8074-A56ACE99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D44FA-FDC9-48B7-87A6-28CE169B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36B36-BC28-4CD4-A288-96A8FD7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70D6C-9DC3-4EF5-AC3D-8E3B6173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752-749E-43F6-AD56-0263BD95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3F44C-FB79-40AE-A7C1-60CCC42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EC78F-F03B-4EA8-BE27-2D02F843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C812D-75F3-41B7-829A-062D2C3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EB00A-FAE8-4B9C-B661-D8827DD6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97273-F3CF-4940-8265-9BEDA63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50E16-708C-42CB-A13C-51EE080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88E96-5848-421F-8B5A-C97F69D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C494E-C646-4965-B484-583A9085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26C65-EBDF-4667-BE85-84435BFA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41E22-0A1E-4656-A8F9-01249A5B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A943-1374-43DA-98C6-A9F7C9FA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9BE15-AECF-439D-9132-174E887B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EE2DF-47AD-4440-8BE9-B0188910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5ACBE-5A92-437C-A738-DC942E2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A399A-E35F-4B74-97B8-EDE2BC03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10E57-4CA5-402E-9727-9AF634EC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BA910-0523-45C5-8314-64BDB47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AE251-7A2C-4C20-B500-E02488EB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2951B-2C81-4445-B5EB-2F3BC6B4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581DF-3119-4777-9532-375F5DE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E5DBB-8940-4A83-8816-882C0A8C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04A-E4A4-4451-8C86-E4FD3B9A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3054E-5CA2-41FD-B0EF-435043B2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93B19-C0B8-43C9-959E-1F412F70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1707F-278F-4B0C-9DD1-CA8A26B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0DD76-8BFF-4CBB-9331-D19A3F2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A959C-E71E-4366-A52E-F8DD28C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C61F9C-181C-42F8-BB4C-3DE1F72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8DEB4-97B3-401F-AA59-6710B75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9E1B4-C08F-47F6-89C2-7C79280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960EE-5EB9-47EE-9C66-934AA72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66202C-4D81-46BA-9CC6-CF3D3B5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4434-C660-49D8-BF2D-09D7F92D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82DF8-F0A9-4F98-8EF4-64ECBC6B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B9CA6-24C7-4693-9F1D-F9CFDC92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DAF8D-BBF1-46C8-85D5-6BAE3C68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DC87C-8DBB-4C04-BC2A-E5C40792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382A3-F635-4F80-83AC-EBF3DF3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7EF18-220A-46E3-A7A4-A41BA6A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EBB3DF-F8B4-4202-A936-EB1D299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3F8FA-7DDD-43AB-BDC3-8368B7FE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E9902-D540-4571-B9C3-06219F2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99CCF-1CDD-4D5A-B37E-14AF731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194A-A797-4622-BD63-C5C13007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573F6-FB9A-4145-9E1F-5769AE7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F0B66-64AD-4E33-9A73-88F8A473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4979DF-E21A-44B3-B26B-6CC8DBC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7D8715-B391-42E1-B25A-6EFB5679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172384-DE42-41D6-9E61-8F282ACF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06686D-04CB-456B-B2C4-79057EFA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E95BD-6FDC-4162-A965-A21DA938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635E8D-8DE3-4E46-9362-BBC6D32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04709-8BC4-46E8-A99B-7BECB38F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89D5D-25C9-4287-A46A-B895F6A9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A557-F0DE-4408-AA15-8FDBBDB3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4287E4-900E-486B-8B07-56F03E3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1E35C5-F801-44AD-807C-EB00296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2DA18A-F3F8-49A2-8C99-5C12664E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A2BFD-26BE-4A21-A55F-A188F8F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CE441-9484-412F-A6EC-FE73227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AA93A7-9315-41FE-A276-C5ABBC2A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9770E8-B5D3-4116-9DEC-7899D940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8322D9-8962-4977-980D-0310516E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B2958-A4E1-4975-9998-A71E802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C33B1B-B75F-480F-B283-FF17BDAB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3C0A-3ED3-425D-939D-05344693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6F1D17-BE4B-4457-B66F-48829FB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82DD60-E364-40DB-9350-C67D9C40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BD80AF-4C46-427E-9FE2-29D48FE6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A1CB36-F5E5-444C-A8ED-5B39A902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F1FDB-EE90-433A-B630-89868E4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D957FF-DE08-46EB-A356-037A469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511DD-CD12-43A7-8FA2-B40DEAF1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018D80-3987-4708-B784-D3AE54AD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DF1A4-8444-41AD-B2C1-21051E30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C7D7F0-EF4A-4203-B38E-3185D4A7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0A0B-266B-4B89-B1B2-AC2FE1A4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EAADEE-07E1-4A2D-ACC8-EB8D5CF6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7009AC-39A6-4266-854F-BAE9787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83C9AC-FC87-4FA0-A27D-E6661E15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B3B2A-C13E-43C6-A288-2F02E57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2734A9-5D1E-40A5-A625-6E47CF97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49C5CC-1D6F-4F9D-9E4B-582DB0F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21A4F4-0A72-4E93-A4B3-DBEEC18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0B6AA4-59DB-4E97-B01E-12E4C54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5E4349-2BF5-41DC-9F50-35C6988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A00FA0-643C-4D46-A713-D44DC756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225-822C-4D52-8C95-BF09268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A07D-B37D-491C-854A-8B17CEE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62A6D0-0346-4C29-BDE3-F2D11624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BCE0A-34AE-49CD-B17F-3ECC428C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746A0A-08A9-4901-A480-4659F45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ADB595-EA41-4290-9EFA-1286BBB3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6A956E-75F1-406D-9418-79056F02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5A3F6B-299A-488C-920C-CC30FD59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E735CF-4CB6-4381-9420-6DD57079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2CBD2B-11D5-42E5-8AC1-3D4659E2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D19004-BA1B-4CCA-830E-A475EA3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E75F2F-E067-4CDF-84A1-B1AEED1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2688-411D-49EA-A859-219FC8AD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7B6836-4261-4D5B-9E5E-4F0EEE7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93B0F2-DE05-4FDE-ABE8-D72C597B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679D8D-34DE-4E67-80FF-2B898E91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12BA42-CC5F-4D23-A96B-DDE8F313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5C3FDA-09DB-401C-B33C-2354FC61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C415CA-5861-4C78-BF56-9EBC479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608306-BF1A-4559-8645-A22B3BAE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90A63A-2A46-4B29-AD26-E9ADA461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CE8ABF-378C-4CEA-8B61-3377776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A8558A-FC25-4805-AE31-C153F60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AD5D-FA91-4FC7-BFC3-A43413A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A2D75A-4955-40B9-94C3-8ED3AC5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693009-DFA3-466C-8378-A389EE8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7AAB29-0ADF-4836-9925-3A94205E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10B9BB-A592-4545-9236-2710ED1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05C7DB-85CB-4FC0-BBA0-19CA38C9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753FAB-95BC-4E14-98A2-3F46D116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17FA4F-B30D-4C4F-B67A-12FADE77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F15177-182B-46A8-9C58-3EAB3AA5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04176C-AE96-4D67-83CF-7998AA3D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B7501C-B051-4B90-9822-E65C123C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DCEF-34A1-4B4A-8664-CD5A5B0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B00D42-4877-49E6-BD93-C9EB18B4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7573E2-41AC-4F4C-B751-9E92E38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388A74-4733-411D-A16F-7209D8C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420920-32B3-4458-AF07-23207AF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1D6CE6-A3F3-4CE1-B42F-05DB1B4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395D83-3A20-4C3E-AC42-F8E5AE47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74B3C7-51C7-46FB-91BE-81473B42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C2DC8C-51CB-42C7-A077-6F874D2A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2F26E2-71BC-4386-A7F6-7447B6C9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BE67C1-4844-482F-BF9A-AC8CB299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636D-7351-4E22-8FE3-523D1CF7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3E04A7-2111-40F0-97D1-1E32597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1479AC-327A-489C-A0F6-221C8E0A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717222-5F27-47A8-89EA-CDDE6B6C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A81E05-D373-418C-90B4-563D2CC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2DEAC8-2722-4E4F-9E21-536B9988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E17979-372F-4402-A55B-0950AD0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20279A-A6A6-4044-B85D-2BBB6CF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5444F0-A158-4351-9FC7-1CB83B6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E3EDD6-041C-448F-9403-1893A097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1D1C28-2905-4D6A-8F32-704ACFD3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BB89-A93B-4791-9EC6-72BFB2F6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B957C4-3494-46A0-8A41-CB5DE2F3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0BDDC9-56A5-479A-9EF1-00EA12C9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7029CF-C6E8-4C1A-86BB-4CE4AB3A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D6155-18FF-4F2D-9DC6-1CD8A104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76B674-6554-4808-8C47-67A9C5F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6607C2-0E7B-4C95-ADF3-4570EFA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EA8A55-E4B0-43A9-BD76-E99FF52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54B401-F2CC-4233-8B3F-3067B99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1799F2-1164-49D3-8847-C2DDA433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27280C-CC9F-4E58-A09F-CB1C80AC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7E68-1F53-416B-BDB3-E9C5DCF2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CD9E52-E60E-4EFF-99B9-00C368F4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FB5E81-5F81-4885-B7DF-39964C13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53DA8-B68A-4329-BC7C-9C8C981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1E07C9-6524-49D1-81EB-F75D5709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CBA6FF-6617-4F81-947A-3A2B66AB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C494E9-30BA-4095-BB05-53CD9E9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7B5F3C-242D-47E0-8BBC-B283C27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E6641E-42CE-4692-B0A9-B1FFDE2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6E1AAB-AE97-482E-B3A1-31D6F96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81CAEA-72ED-4716-8278-92E3843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7826-962C-499D-A683-2D631972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75E8A8-9C01-4AE3-AD77-66624167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ED0C9A-DD17-4B9E-AD63-2731BE9B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75BD8-B411-473F-B1EF-AF1CBD83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418A-B63B-485F-A677-71EC571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BA59-FED7-4E82-BADB-BDBF69C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4F0-A2CF-43AD-A71E-11B2216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2C7D-27AA-49A9-AAEB-C734D77D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A09E-58F1-43F8-AE6C-4468A19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D4D7-821E-419D-950D-1081A9D4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A863-62F8-4241-8D79-B0E0BB5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C942-7B81-4028-AA3F-E68986E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4A9F-755A-4654-8282-73F5A5D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D25E-19F0-417D-9F2B-F8694F1A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9648-56CF-4902-AFAF-2E3BA8AC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7B3E-3AA7-418B-BFAB-D38A7472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0F3E6-F368-4FA8-835C-64A8E7E2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224-100E-4AA8-A6BA-59632FA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43CF-5A9A-47F7-96A4-9D8D7BA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F5C0-E3F8-4BB7-A8FC-02D25CB6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3AEA0-C767-4719-8129-442119D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F3EBA-CB8C-4891-BF59-FDBE913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62B7-BFC9-4187-A8FE-4587155D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1FEE3-4BDE-49A6-8A24-8281496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56DF-7530-4E08-BB10-927450D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4719-BE7A-4547-949F-89809E4A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9C51-AE30-4EB2-8CCC-A7727BAF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5C96-6BC9-460E-84D7-09660771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913-3A88-4B31-A65C-0B10CAC4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C890-BD0D-4799-931F-E1CEED9C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1F89-7081-48BE-8E17-C5FCF3F0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3410D-98FE-4258-8B98-145847E2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8EAA5-00AA-42A1-887B-67533171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11DD-7AD8-4105-BD95-B79AC98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2BE8-0F94-4B7D-BC6A-2E948C7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D4DBB-DF33-4727-8012-54820B5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6602E-BE92-401B-ADA0-0344AFB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893E-124C-4A22-B62D-22251B3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36773-BBDE-4F91-9725-B8B6643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ED6-54F7-4199-A213-6497B76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D01B9-D3CA-4900-81CF-A61B50B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7289-88C6-4209-8774-43AF66D2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DD1D2-FC6C-47F4-9E89-7C053E8F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0092-81E1-40F8-9464-8928C2D0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6D0E-AB8D-4D0E-8E10-6219A3D0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8904-E258-45EE-BBD7-D0226AD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29711-FB9B-45A1-91DF-880F2A03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086D-869D-4F5E-9AFA-C5C1FE09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AE2EF-4502-4B67-89F8-A606811B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B23B-024C-4E36-A51D-432E2CE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9C5-8EB7-4F63-AC17-CF7F213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80819-5F39-4DE0-9EC3-3A2013C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9F8F-254E-4223-8128-0AAD23D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187E-212E-4EC6-B252-864E27A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9A7D9-D1CA-42BC-B25E-D0E050FC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6D02C-6C2A-435D-BCB7-4D905057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6C90E-C3F7-4901-ABFB-71901AE2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B290F-BB5F-45F0-BF1A-29F80AB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442D1-79BE-495F-92E4-780D292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EE37-05A7-4E22-9043-D119C208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C245E-F79D-489B-9C90-7E4BF87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FD9-F104-4E35-BA4A-3867013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460A-F5E5-49AE-AE3C-1E3A69D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FBDA-8B75-46EF-A1DB-874C315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9671-A26C-4E30-9CF3-C6BB228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8D571-10D7-42F3-AA84-3C07DF8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A9045-6FDD-4427-B5AE-8D559834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395DD-6372-434A-AF81-16DD5338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5C9B-023D-4AF6-8DD1-752DEC1A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63AC1-9743-44D8-9646-0AE8A992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636E-D646-4636-907E-BF5AA78D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35630-7E0A-4B79-A554-A46E98D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6FC7-4910-4910-BEC9-4CD2884414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C36-BCE2-43E7-8651-536256AAE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4E6D-7E43-4060-8477-F273636AB4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679-CAED-4ACC-901D-3A9444B54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E4A-A864-4DD1-AE6F-29F962233E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2DA-2F56-422A-927D-ECA6165B53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66F5-6223-4576-A680-CC35E3BE9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3E3-2ED0-49C2-8DF8-B5C6CF4780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59DD-BE25-48A1-9357-236E9813A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5FC9-AD4A-4BC5-9837-1742005CC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D917-FCC1-479B-93B4-2B5E7281F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CEC9-582E-49C3-B2EE-3C5045DD3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F8A-B954-4575-881D-40B2A05C13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8F9F-6E11-402E-B0FC-DF25B4A6C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05D7-769A-4C64-9EF9-8A1D09C09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A390-18E7-4A5B-B543-BDBB80B49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79AE-3A4C-4FE0-83E4-227F6362F9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2786-0F4A-431E-AACF-C1B86017F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4CD3-8F0A-4359-9268-73B4A5527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E41-0D53-4830-8B30-D29D46531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1BB-ABB0-48DA-8A95-A9E5F46515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66C7-3DD7-4406-9798-6BF057B725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105C-B003-449D-AF8E-831E3FDBB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B850-52E5-41B5-BEEC-C3D2FFFE0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37F2-14ED-475F-8E6F-8F8830644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0CE-A915-4D92-8761-BEB0947F8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783-D911-4CF5-9F25-8965A7DF6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EDE-7B0F-48AD-8EBA-5C5C2B6B7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90E9-6DC7-4DA6-AD2A-964824D8CD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4C1-47B1-4AC4-8656-799A3D6BA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03D-B184-4B32-B061-640970D1D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6AD-EA0F-4B59-9EA6-19AD22EC4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F229-4DF3-4491-BA6A-1BD6D0C9A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992E-EEA2-46BE-80A6-181978267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0026-34D2-4FEE-85A1-1D16B1A59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A902-5C25-4E2B-B8E5-563BA07F9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578-1E91-4FCF-89F7-44F495920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7AD3-0781-41E8-85B2-AB90F7FEA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605-AB08-4FE3-B9C4-A4BCF24B3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E8C9-D39D-4BFD-9EF5-48F763FBD2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45E3-5627-45E8-B8AA-EEADB8E34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B240-7084-4CB1-97E8-A2FC130E34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26D-2E8B-4C23-A7B4-6F689F345E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042-72C4-4D07-BC7A-5D03491C9C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260-65B5-4068-830D-C7847246A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D5F-EC87-46E5-B4D3-CFF041BD4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8FB8-9E2B-498F-B25F-A84B2A55B2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EDE4-F565-4A30-8CDC-F0720121A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E6C7-AA57-46F4-A1D7-78925BD7AE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CD8E-E700-495B-98C2-00BFCD8C94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300320" y="3090960"/>
            <a:ext cx="6543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91137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01000" cy="332424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91138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5400720" cy="18763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91139"/>
          <p:cNvSpPr/>
          <p:nvPr/>
        </p:nvSpPr>
        <p:spPr>
          <a:xfrm>
            <a:off x="7716960" y="3770280"/>
            <a:ext cx="4903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2161" descr=""/>
          <p:cNvPicPr/>
          <p:nvPr/>
        </p:nvPicPr>
        <p:blipFill>
          <a:blip r:embed="rId1"/>
          <a:stretch/>
        </p:blipFill>
        <p:spPr>
          <a:xfrm>
            <a:off x="457200" y="723960"/>
            <a:ext cx="8029440" cy="597060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92162" descr=""/>
          <p:cNvPicPr/>
          <p:nvPr/>
        </p:nvPicPr>
        <p:blipFill>
          <a:blip r:embed="rId2"/>
          <a:stretch/>
        </p:blipFill>
        <p:spPr>
          <a:xfrm>
            <a:off x="8453520" y="6278400"/>
            <a:ext cx="628560" cy="40032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2163"/>
          <p:cNvSpPr/>
          <p:nvPr/>
        </p:nvSpPr>
        <p:spPr>
          <a:xfrm>
            <a:off x="4281480" y="1101600"/>
            <a:ext cx="490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92164"/>
          <p:cNvSpPr/>
          <p:nvPr/>
        </p:nvSpPr>
        <p:spPr>
          <a:xfrm>
            <a:off x="1332000" y="2060640"/>
            <a:ext cx="911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2165"/>
          <p:cNvSpPr/>
          <p:nvPr/>
        </p:nvSpPr>
        <p:spPr>
          <a:xfrm>
            <a:off x="3708360" y="2060640"/>
            <a:ext cx="873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2166"/>
          <p:cNvSpPr/>
          <p:nvPr/>
        </p:nvSpPr>
        <p:spPr>
          <a:xfrm>
            <a:off x="3492360" y="5734080"/>
            <a:ext cx="18432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2167"/>
          <p:cNvSpPr/>
          <p:nvPr/>
        </p:nvSpPr>
        <p:spPr>
          <a:xfrm>
            <a:off x="7236000" y="6237360"/>
            <a:ext cx="9111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3185" descr=""/>
          <p:cNvPicPr/>
          <p:nvPr/>
        </p:nvPicPr>
        <p:blipFill>
          <a:blip r:embed="rId1"/>
          <a:stretch/>
        </p:blipFill>
        <p:spPr>
          <a:xfrm>
            <a:off x="528480" y="806400"/>
            <a:ext cx="8010720" cy="240048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93187" descr=""/>
          <p:cNvPicPr/>
          <p:nvPr/>
        </p:nvPicPr>
        <p:blipFill>
          <a:blip r:embed="rId2"/>
          <a:stretch/>
        </p:blipFill>
        <p:spPr>
          <a:xfrm>
            <a:off x="500040" y="3503520"/>
            <a:ext cx="7953480" cy="29527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3188"/>
          <p:cNvSpPr/>
          <p:nvPr/>
        </p:nvSpPr>
        <p:spPr>
          <a:xfrm>
            <a:off x="2784600" y="2200320"/>
            <a:ext cx="4903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3189"/>
          <p:cNvSpPr/>
          <p:nvPr/>
        </p:nvSpPr>
        <p:spPr>
          <a:xfrm>
            <a:off x="1692360" y="2708280"/>
            <a:ext cx="7286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94211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353000" cy="471492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94212" descr=""/>
          <p:cNvPicPr/>
          <p:nvPr/>
        </p:nvPicPr>
        <p:blipFill>
          <a:blip r:embed="rId2"/>
          <a:stretch/>
        </p:blipFill>
        <p:spPr>
          <a:xfrm>
            <a:off x="3068640" y="5076720"/>
            <a:ext cx="2943360" cy="35244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94213" descr=""/>
          <p:cNvPicPr/>
          <p:nvPr/>
        </p:nvPicPr>
        <p:blipFill>
          <a:blip r:embed="rId3"/>
          <a:stretch/>
        </p:blipFill>
        <p:spPr>
          <a:xfrm>
            <a:off x="722160" y="5578560"/>
            <a:ext cx="5629320" cy="895320"/>
          </a:xfrm>
          <a:prstGeom prst="rect">
            <a:avLst/>
          </a:prstGeom>
          <a:ln w="0">
            <a:noFill/>
          </a:ln>
        </p:spPr>
      </p:pic>
      <p:sp>
        <p:nvSpPr>
          <p:cNvPr id="1483" name="矩形 94214"/>
          <p:cNvSpPr/>
          <p:nvPr/>
        </p:nvSpPr>
        <p:spPr>
          <a:xfrm>
            <a:off x="1512720" y="1163520"/>
            <a:ext cx="17510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94215"/>
          <p:cNvSpPr/>
          <p:nvPr/>
        </p:nvSpPr>
        <p:spPr>
          <a:xfrm>
            <a:off x="611280" y="2637000"/>
            <a:ext cx="465444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94216"/>
          <p:cNvSpPr/>
          <p:nvPr/>
        </p:nvSpPr>
        <p:spPr>
          <a:xfrm>
            <a:off x="611280" y="3222720"/>
            <a:ext cx="467496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4217"/>
          <p:cNvSpPr/>
          <p:nvPr/>
        </p:nvSpPr>
        <p:spPr>
          <a:xfrm>
            <a:off x="611280" y="4005360"/>
            <a:ext cx="27763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4218"/>
          <p:cNvSpPr/>
          <p:nvPr/>
        </p:nvSpPr>
        <p:spPr>
          <a:xfrm>
            <a:off x="539640" y="4508640"/>
            <a:ext cx="6064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4219"/>
          <p:cNvSpPr/>
          <p:nvPr/>
        </p:nvSpPr>
        <p:spPr>
          <a:xfrm>
            <a:off x="611280" y="5013360"/>
            <a:ext cx="6064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4220"/>
          <p:cNvSpPr/>
          <p:nvPr/>
        </p:nvSpPr>
        <p:spPr>
          <a:xfrm>
            <a:off x="611280" y="5516640"/>
            <a:ext cx="6064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94221"/>
          <p:cNvSpPr/>
          <p:nvPr/>
        </p:nvSpPr>
        <p:spPr>
          <a:xfrm>
            <a:off x="611280" y="6021360"/>
            <a:ext cx="6064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385920" y="1281240"/>
            <a:ext cx="8372160" cy="42955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7"/>
          <p:cNvSpPr/>
          <p:nvPr/>
        </p:nvSpPr>
        <p:spPr>
          <a:xfrm>
            <a:off x="7740720" y="1989000"/>
            <a:ext cx="7081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88068"/>
          <p:cNvSpPr/>
          <p:nvPr/>
        </p:nvSpPr>
        <p:spPr>
          <a:xfrm>
            <a:off x="1403280" y="2421000"/>
            <a:ext cx="7081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9"/>
          <p:cNvSpPr/>
          <p:nvPr/>
        </p:nvSpPr>
        <p:spPr>
          <a:xfrm>
            <a:off x="1979640" y="2781360"/>
            <a:ext cx="70812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70"/>
          <p:cNvSpPr/>
          <p:nvPr/>
        </p:nvSpPr>
        <p:spPr>
          <a:xfrm>
            <a:off x="4427640" y="2781360"/>
            <a:ext cx="7077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1"/>
          <p:cNvSpPr/>
          <p:nvPr/>
        </p:nvSpPr>
        <p:spPr>
          <a:xfrm>
            <a:off x="6804000" y="2781360"/>
            <a:ext cx="7081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2"/>
          <p:cNvSpPr/>
          <p:nvPr/>
        </p:nvSpPr>
        <p:spPr>
          <a:xfrm>
            <a:off x="611280" y="3933720"/>
            <a:ext cx="6714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3"/>
          <p:cNvSpPr/>
          <p:nvPr/>
        </p:nvSpPr>
        <p:spPr>
          <a:xfrm>
            <a:off x="3708360" y="4365720"/>
            <a:ext cx="94284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4"/>
          <p:cNvSpPr/>
          <p:nvPr/>
        </p:nvSpPr>
        <p:spPr>
          <a:xfrm>
            <a:off x="6804000" y="4365720"/>
            <a:ext cx="9190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5"/>
          <p:cNvSpPr/>
          <p:nvPr/>
        </p:nvSpPr>
        <p:spPr>
          <a:xfrm>
            <a:off x="1692360" y="5022720"/>
            <a:ext cx="90468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704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8200" cy="56005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7042"/>
          <p:cNvSpPr/>
          <p:nvPr/>
        </p:nvSpPr>
        <p:spPr>
          <a:xfrm>
            <a:off x="5527800" y="2379600"/>
            <a:ext cx="54612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7043"/>
          <p:cNvSpPr/>
          <p:nvPr/>
        </p:nvSpPr>
        <p:spPr>
          <a:xfrm>
            <a:off x="7737480" y="2359080"/>
            <a:ext cx="66996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7044"/>
          <p:cNvSpPr/>
          <p:nvPr/>
        </p:nvSpPr>
        <p:spPr>
          <a:xfrm>
            <a:off x="4660920" y="5799240"/>
            <a:ext cx="54612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7045"/>
          <p:cNvSpPr/>
          <p:nvPr/>
        </p:nvSpPr>
        <p:spPr>
          <a:xfrm>
            <a:off x="2432160" y="6103800"/>
            <a:ext cx="111420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6017" descr=""/>
          <p:cNvPicPr/>
          <p:nvPr/>
        </p:nvPicPr>
        <p:blipFill>
          <a:blip r:embed="rId1"/>
          <a:stretch/>
        </p:blipFill>
        <p:spPr>
          <a:xfrm>
            <a:off x="395280" y="723960"/>
            <a:ext cx="8420040" cy="592452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6018"/>
          <p:cNvSpPr/>
          <p:nvPr/>
        </p:nvSpPr>
        <p:spPr>
          <a:xfrm>
            <a:off x="1538280" y="1922400"/>
            <a:ext cx="49680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6019"/>
          <p:cNvSpPr/>
          <p:nvPr/>
        </p:nvSpPr>
        <p:spPr>
          <a:xfrm>
            <a:off x="2916360" y="2276640"/>
            <a:ext cx="64584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6020"/>
          <p:cNvSpPr/>
          <p:nvPr/>
        </p:nvSpPr>
        <p:spPr>
          <a:xfrm>
            <a:off x="4427640" y="3068640"/>
            <a:ext cx="125100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6021"/>
          <p:cNvSpPr/>
          <p:nvPr/>
        </p:nvSpPr>
        <p:spPr>
          <a:xfrm>
            <a:off x="8101080" y="3068640"/>
            <a:ext cx="49680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86022"/>
          <p:cNvSpPr/>
          <p:nvPr/>
        </p:nvSpPr>
        <p:spPr>
          <a:xfrm>
            <a:off x="4427640" y="4508640"/>
            <a:ext cx="4093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6023"/>
          <p:cNvSpPr/>
          <p:nvPr/>
        </p:nvSpPr>
        <p:spPr>
          <a:xfrm>
            <a:off x="7164360" y="4581360"/>
            <a:ext cx="496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84993" descr=""/>
          <p:cNvPicPr/>
          <p:nvPr/>
        </p:nvPicPr>
        <p:blipFill>
          <a:blip r:embed="rId1"/>
          <a:stretch/>
        </p:blipFill>
        <p:spPr>
          <a:xfrm>
            <a:off x="538200" y="1228680"/>
            <a:ext cx="8067600" cy="4400640"/>
          </a:xfrm>
          <a:prstGeom prst="rect">
            <a:avLst/>
          </a:prstGeom>
          <a:ln w="0">
            <a:noFill/>
          </a:ln>
        </p:spPr>
      </p:pic>
      <p:sp>
        <p:nvSpPr>
          <p:cNvPr id="1456" name="矩形 84994"/>
          <p:cNvSpPr/>
          <p:nvPr/>
        </p:nvSpPr>
        <p:spPr>
          <a:xfrm>
            <a:off x="7802640" y="4257720"/>
            <a:ext cx="4237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83969" descr=""/>
          <p:cNvPicPr/>
          <p:nvPr/>
        </p:nvPicPr>
        <p:blipFill>
          <a:blip r:embed="rId1"/>
          <a:stretch/>
        </p:blipFill>
        <p:spPr>
          <a:xfrm>
            <a:off x="528480" y="1747800"/>
            <a:ext cx="8087040" cy="33624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83970"/>
          <p:cNvSpPr/>
          <p:nvPr/>
        </p:nvSpPr>
        <p:spPr>
          <a:xfrm>
            <a:off x="7740720" y="2219400"/>
            <a:ext cx="4237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82945" descr=""/>
          <p:cNvPicPr/>
          <p:nvPr/>
        </p:nvPicPr>
        <p:blipFill>
          <a:blip r:embed="rId1"/>
          <a:stretch/>
        </p:blipFill>
        <p:spPr>
          <a:xfrm>
            <a:off x="557280" y="1752480"/>
            <a:ext cx="8029440" cy="335304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2946"/>
          <p:cNvSpPr/>
          <p:nvPr/>
        </p:nvSpPr>
        <p:spPr>
          <a:xfrm>
            <a:off x="7740720" y="2781360"/>
            <a:ext cx="4903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9089" descr=""/>
          <p:cNvPicPr/>
          <p:nvPr/>
        </p:nvPicPr>
        <p:blipFill>
          <a:blip r:embed="rId1"/>
          <a:stretch/>
        </p:blipFill>
        <p:spPr>
          <a:xfrm>
            <a:off x="547560" y="814320"/>
            <a:ext cx="8048880" cy="52293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89090"/>
          <p:cNvSpPr/>
          <p:nvPr/>
        </p:nvSpPr>
        <p:spPr>
          <a:xfrm>
            <a:off x="7791480" y="1274760"/>
            <a:ext cx="490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89091"/>
          <p:cNvSpPr/>
          <p:nvPr/>
        </p:nvSpPr>
        <p:spPr>
          <a:xfrm>
            <a:off x="7812000" y="4653000"/>
            <a:ext cx="490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90113" descr=""/>
          <p:cNvPicPr/>
          <p:nvPr/>
        </p:nvPicPr>
        <p:blipFill>
          <a:blip r:embed="rId1"/>
          <a:stretch/>
        </p:blipFill>
        <p:spPr>
          <a:xfrm>
            <a:off x="552600" y="1495440"/>
            <a:ext cx="8038800" cy="3867120"/>
          </a:xfrm>
          <a:prstGeom prst="rect">
            <a:avLst/>
          </a:prstGeom>
          <a:ln w="0">
            <a:noFill/>
          </a:ln>
        </p:spPr>
      </p:pic>
      <p:sp>
        <p:nvSpPr>
          <p:cNvPr id="1465" name="矩形 90114"/>
          <p:cNvSpPr/>
          <p:nvPr/>
        </p:nvSpPr>
        <p:spPr>
          <a:xfrm>
            <a:off x="7765920" y="3941640"/>
            <a:ext cx="490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5:3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